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C42C-FCFF-464E-A1DD-0AD2454F7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77BF-3AC0-4DF8-9B7A-86BFB33C9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B033-AC39-4E23-9C61-CACDDADE3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110D-41F1-4690-996D-69F726B6C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D18B-592A-4020-9A26-FD9E272EA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4E08-F4A6-485E-B020-37F91AEC5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2F1B-7260-4F3D-8C96-089D9F843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D48C-DC4F-4CDB-B2C5-832108E50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EE75-3E6A-4C1D-A5A3-F92BEE6D5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903B-5B2C-46DB-8017-6F2249816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CF61-FE6B-435B-B97D-461481702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E510-8B29-4890-904B-27A56CFD1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9704-FB84-4987-9EE1-435B74A16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75F6-C380-4A24-A546-500CE428D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06E9-F996-43F3-A450-57852665D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7138-EDFD-4AA2-9C9F-EE77A2BB6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3597-1167-41EC-8E74-E41650A64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2DF4-35F1-45E4-8E55-39311706B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B000-3F40-4124-9483-50E5A1FF4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660A-FE67-4D09-8D80-275E76177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3ADC-A3AF-4F58-B27B-9514FED8C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21C8-6F80-496B-849D-34B41760B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73E3-789D-4F99-A7E9-27FCFF0A1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2767-D7C4-4A6B-B48A-7200385E8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6DFE-B78E-4FE1-82B2-306F37962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DC3F-5905-42D7-8AF3-B9F4AAB89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CC5B-DFCB-40B7-935B-70F693C1D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3AE6-DB94-47ED-AF08-2F1B9807B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34F0-3A7A-4C9E-911C-D3EDEDD81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EF23-054C-4A3A-B8C8-717C89F54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4FA3-98B4-415D-9308-847B58430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A826-9A5E-4B18-8B17-E20809219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AE4C2-29C0-4A1C-8A9C-4F8DBD7495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099DD-AE0C-441E-93C8-135CD8A9E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42632-D89B-4E56-85C3-875029769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4ACF5-4E40-4B8C-847C-1DF57385D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0310-2564-41CA-926E-0B40F30390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2A67-DF30-4BE9-86D7-966CC96818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D69D-B159-499B-885F-40138D12D4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5AAA-FA24-42AB-ACBF-CE980AA761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DAF9-8B65-4CB3-9A16-1894A6C464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E8F9-19AC-452D-B67C-881AD71ED0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0669-DF1F-4AF9-B486-8CFA1B9567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98190-4FFE-4FD7-AC8D-8A2CA72FDC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CDBD-9FC7-4A24-A61B-CC2D54E0BB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8479-0567-4497-AE85-847BFE9FB7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40A3-1156-4F59-B36E-E53E8E2A79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829E-42E3-4C5F-B79B-D6519E35DD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8935-9A84-4B38-828D-B965D4ED09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CB94E-B62D-4C7D-9C82-C23DA61FE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C3FB7-31B8-4435-AA37-F6BD8B34A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94961-9991-4750-9734-A8E085313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FB83A-16FC-498D-B588-81780F501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C648C-0E4E-46E5-8C5E-EB05056F0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CA686-8B06-40E2-A2B0-5B7D13484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35916-F65F-4938-B1A3-11BDCDC8B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30AA-F3D0-42B9-BA9C-A610079CEC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2D0C-0531-46E9-AB3F-90BEEB93DA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E0CC-861E-4B88-A444-B1D26EBFB7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de qualité des 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BB64-1E33-44F3-8DAF-3CB996FAAF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’une colonie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4C1A-5781-4D38-BFAD-5AFC1B49E83F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CDAE-0BAB-4673-878D-00A47E13A0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cFarland 0.5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juster la suspension bactér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3882-D987-428E-931E-0022F8117A6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A275-3602-460C-B324-D4F38AC273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64A8-8184-41C9-BF74-C834A10640A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er des distributeurs de disqu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es, rapi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gmentent la reproduct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isqu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minuent les capacités personnelles de ju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4B42-44F9-4248-BFD9-4C21F7CAEC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729E-188B-4922-9A11-EA5A11D376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196" name="ZoneTexte 7"/>
          <p:cNvSpPr/>
          <p:nvPr/>
        </p:nvSpPr>
        <p:spPr>
          <a:xfrm>
            <a:off x="685800" y="53341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8"/>
          <p:cNvSpPr/>
          <p:nvPr/>
        </p:nvSpPr>
        <p:spPr>
          <a:xfrm>
            <a:off x="5105520" y="5334120"/>
            <a:ext cx="36576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Inoculum trop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1E17-14B4-40F6-9DF3-5E1857C2C8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1" name="Picture 5" descr="Disk moved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981320"/>
          </a:xfrm>
          <a:prstGeom prst="rect">
            <a:avLst/>
          </a:prstGeom>
          <a:ln w="0">
            <a:noFill/>
          </a:ln>
        </p:spPr>
      </p:pic>
      <p:sp>
        <p:nvSpPr>
          <p:cNvPr id="202" name="ZoneTexte 5"/>
          <p:cNvSpPr/>
          <p:nvPr/>
        </p:nvSpPr>
        <p:spPr>
          <a:xfrm>
            <a:off x="685800" y="53737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6"/>
          <p:cNvSpPr/>
          <p:nvPr/>
        </p:nvSpPr>
        <p:spPr>
          <a:xfrm>
            <a:off x="5638680" y="5400720"/>
            <a:ext cx="30481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Zones non régulière car le disque n’a pas été appliqué correc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8D81-D31A-4D23-8B48-7E690E9BA2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4F60-E9D4-4C92-AD25-43B1C521251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9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6522480" y="4038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è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809000" y="4114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ied à coul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04920" y="4572000"/>
            <a:ext cx="8458200" cy="1905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cture avec une lumière suffisante et à l’arrière 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boî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zone lue est spécifique à un médica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loupe peut a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millimètres comp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BAA2-4E24-412C-A0E6-1A29423F65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test – méthode par gradient de concent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B654-B85F-4020-BE69-34B049FA9D9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D4BA-BD4F-433B-9DE2-70987F7122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ésultats peuvent être incorrects si 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organisme n’a pas été bien identif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rreur de transcri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x inapproprié d’antibiot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testé du patient n’était pas le b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nalyse demandée n’était pas la bo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n’a pas été conservé correct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BE60-FFC0-4860-9BF5-5A34F14DC0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F8F0-2716-4DCE-A6AE-31D1ED93F25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5640" y="4568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6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1"/>
          <p:cNvSpPr/>
          <p:nvPr/>
        </p:nvSpPr>
        <p:spPr>
          <a:xfrm>
            <a:off x="174240" y="4114800"/>
            <a:ext cx="700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ssent des inform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our sélectionner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tibiothérapie appropr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08D9-D51F-42A9-A66B-3F6DD5C108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interpré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éthode des disq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t des résultats qualitatifs interprétables : sensibles, intermédiaires et résist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crodilution et diffusion en aga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fournissent un résultat quantitatif, une concentration minimum inhibitr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EA84-7E7F-40A8-9E80-E0AF8B159F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éth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6"/>
          <p:cNvSpPr/>
          <p:nvPr/>
        </p:nvSpPr>
        <p:spPr>
          <a:xfrm>
            <a:off x="5029200" y="1752480"/>
            <a:ext cx="388620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tests de sensibilité déterminent si la bactérie peut être inhibée par un antibiotiq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a susceptibilité est basée sur la concentration requise pour réduire la pousse sous le niveau visible (voir CI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8"/>
          <p:cNvSpPr/>
          <p:nvPr/>
        </p:nvSpPr>
        <p:spPr>
          <a:xfrm>
            <a:off x="2362320" y="289080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Concentr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Inhibit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inim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9"/>
          <p:cNvSpPr/>
          <p:nvPr/>
        </p:nvSpPr>
        <p:spPr>
          <a:xfrm>
            <a:off x="380880" y="2666880"/>
            <a:ext cx="190512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Tubes avec milieu de culture, bactéries, et des quantité croissante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0"/>
          <p:cNvSpPr/>
          <p:nvPr/>
        </p:nvSpPr>
        <p:spPr>
          <a:xfrm>
            <a:off x="5791320" y="3657600"/>
            <a:ext cx="2057400" cy="215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Sensi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bactérie est dite sensible à un antibiotique si la pousse est inhibée par une concentration qui est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FACILEMENT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et en toute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SECURITE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obtenue dans la circulation sanguine du pati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réponse clinique positive pour le patient est anticipé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Résist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L’opposé de sensibl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11"/>
          <p:cNvSpPr/>
          <p:nvPr/>
        </p:nvSpPr>
        <p:spPr>
          <a:xfrm>
            <a:off x="685800" y="3429000"/>
            <a:ext cx="12952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Boîte d’agar avec un tapis de pousse bactérien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2"/>
          <p:cNvSpPr/>
          <p:nvPr/>
        </p:nvSpPr>
        <p:spPr>
          <a:xfrm>
            <a:off x="2514600" y="4648320"/>
            <a:ext cx="106668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Zone d’inhibition de la pousse bactérien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13"/>
          <p:cNvSpPr/>
          <p:nvPr/>
        </p:nvSpPr>
        <p:spPr>
          <a:xfrm>
            <a:off x="1600200" y="502452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Disque imprégné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4"/>
          <p:cNvSpPr/>
          <p:nvPr/>
        </p:nvSpPr>
        <p:spPr>
          <a:xfrm>
            <a:off x="2743200" y="5562720"/>
            <a:ext cx="5335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5"/>
          <p:cNvSpPr/>
          <p:nvPr/>
        </p:nvSpPr>
        <p:spPr>
          <a:xfrm rot="5400000">
            <a:off x="3169800" y="3823920"/>
            <a:ext cx="914400" cy="27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6"/>
          <p:cNvSpPr/>
          <p:nvPr/>
        </p:nvSpPr>
        <p:spPr>
          <a:xfrm>
            <a:off x="4191120" y="4540320"/>
            <a:ext cx="457200" cy="18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C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7"/>
          <p:cNvSpPr/>
          <p:nvPr/>
        </p:nvSpPr>
        <p:spPr>
          <a:xfrm>
            <a:off x="4267080" y="3581280"/>
            <a:ext cx="13716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Note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En mesurant la taille de la zone, on peut calculer la CIM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Plus la zone est petite, plus la CIM est élevé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8"/>
          <p:cNvSpPr/>
          <p:nvPr/>
        </p:nvSpPr>
        <p:spPr>
          <a:xfrm>
            <a:off x="3276720" y="2666880"/>
            <a:ext cx="152388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lution de milieu de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9"/>
          <p:cNvSpPr/>
          <p:nvPr/>
        </p:nvSpPr>
        <p:spPr>
          <a:xfrm>
            <a:off x="3809880" y="5486400"/>
            <a:ext cx="152424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ffusion de dis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DFF2-2F3A-41EB-AD82-6DD5D07AA8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A2C1-9DBC-4524-BA33-E15FD16050A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6" name="Text Box 3"/>
          <p:cNvSpPr/>
          <p:nvPr/>
        </p:nvSpPr>
        <p:spPr>
          <a:xfrm>
            <a:off x="304920" y="1295280"/>
            <a:ext cx="807696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linical and Laboratory Standards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ciété française de microb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8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Text Box 8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fé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F1D1-C252-4C51-8D17-031F3C256E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Exemple d’un extrait de référence :</a:t>
            </a:r>
            <a:br>
              <a:rPr sz="28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u médicament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E119-A705-476C-8492-FA600E5755B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5823-3B7C-430A-9BE4-DC809FFCBC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8A82-B1D2-47D0-A1DE-67F0DD00291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d des erreurs surviennent dans le test de susceptibilit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li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tibiotiqu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quipement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terpré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F8F7-C520-4976-BACB-743167EA74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0C00-7FBA-4759-B58E-216CC9F7230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 d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lieu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      Mueller Hinto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4 mm épaisseu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tibioti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fr-FR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 mi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ubateur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A276-3980-4AC5-8888-BE684D41D0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C0A0-CE1F-4DA5-80A2-EBAC78E8642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uches de coll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85800" y="388620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souches de CQ doivent provenir d‘organisations réputé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souches spécifiques pour tester différentes combinaisons de médic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00:58Z</dcterms:created>
  <dc:creator>Robin Barteluk</dc:creator>
  <dc:description/>
  <dc:language>en-US</dc:language>
  <cp:lastModifiedBy>dolmazonv</cp:lastModifiedBy>
  <dcterms:modified xsi:type="dcterms:W3CDTF">2010-04-08T14:40:14Z</dcterms:modified>
  <cp:revision>17</cp:revision>
  <dc:subject/>
  <dc:title>Microbiology QC</dc:title>
</cp:coreProperties>
</file>